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6A28A-465B-47B8-9993-E9850A8A97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the first 7 amino acids in the hemoglobin ß-ch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is normal (with glutamic acid), Right is sickle-cell anemia (with vali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shed a book called Inborn Errors of Metaboism in 19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luded alkaptonuria, cystinuria, pentosuria, albi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imal nutrient medium contained inorganic salts, sugar, one of the B vita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F2BB-EE94-4240-97EA-0F1129C06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3CD9-1325-4E47-A45D-E8C1C9B7A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B8F2-631F-4934-AAA6-AA7CC2C1B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E247-EFBF-4B11-B0DF-3EFA5783D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1EA7-C314-4C46-9745-2B70A6F02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2753-E98A-4ADD-AE02-49AA33866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EFBD-BFA7-4747-8B21-787BD2DFB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BCD8-3D12-49AA-8A99-61079D554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DAF7-B2C4-43CF-9864-1A902E6B8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9BA6-7039-40DB-9AED-0BB54A66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F0CD-E4AB-4EF0-8B06-53456223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F2A6-6774-447D-863A-BCD691C41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3B97A-90A9-4024-A600-A7E56D65AC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highered.mcgraw-hill.com/sites/0072437316/student_view0/chapter14/chapter_quiz.html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dnaftb.org/16/animation.html" TargetMode="External"/><Relationship Id="rId2" Type="http://schemas.openxmlformats.org/officeDocument/2006/relationships/hyperlink" Target="http://wps.prenhall.com/wps/media/objects/1552/1589869/web_tut/21_04/21_04_01a.swf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lecular Gene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in 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Gene-One Polypept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adle &amp; Tatum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on next slide from: http://www.mun.ca/biology/scarr/Arginine_nutritional_mutant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tant strains were unable to grow on minimal nutrient med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some mutant strains, addition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rgini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the minimal nutrient medium resulted in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ction pathway for synthesis of arginine was determined through experi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5800" y="738360"/>
            <a:ext cx="7772400" cy="52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ginine Synthesis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flickr.com/photos/agathman/5469134899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913040" y="1981080"/>
            <a:ext cx="5316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e Gene-One Enzy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adle &amp; Tatum’s work resulted in the one gene-one enzyme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hypothesis is more accurately known as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e gene-one polypepti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non Ingram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rom: http://www.pnas.org/site/misc/ingram.sht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rman-American Biology professor (1924-2006) who studied sickle-cell anem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648320" y="2787480"/>
            <a:ext cx="380988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ckle-cell anemia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rom: http://www.blackpast.org/?q=aah/sickle-cell-anemi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ditary dis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 blood cells contain abnormal hemoglobin, causing crescent shap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 difficulty with blood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971960" y="1981080"/>
            <a:ext cx="3160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ckle-cell anemia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gassama.myweb.uga.ed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quenced the hemoglobin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d the difference between hemoglobin of normal RBCs and sickle cell anemia RBC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648320" y="261000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moglobin ß-chain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library.thinkquest.org/17109/disease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548080" y="1981080"/>
            <a:ext cx="4047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yoursel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highered.mcgraw-hill.com/sites/0072437316/student_view0/chapter14/chapter_quiz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adle &amp; Tatum experiments (excellent slideshow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dnaftb.org/16/animation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adle &amp; Tatum (narrated animation…a bit d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ps.prenhall.com/wps/media/objects/1552/1589869/web_tut/21_04/21_04_01a.sw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chibald Garrod (1857-1963)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dnaftb.org/13/bio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tish physician who studied metabolic defects in newbo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ced family history of certain illn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222880" y="1981080"/>
            <a:ext cx="2660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kaptonuria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gfmer.ch/genetic_diseases_v2/gendis_detail_list.php?cat3=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ditary disease that caused urine to turn black due to accumulation of alkapton (homogentisic aci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5800" y="2624040"/>
            <a:ext cx="3809880" cy="28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rrod’s hypothes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borns who were fed extra phenylalanine (an amino acid) had increased blackness in ur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…alkaptonuria must be caused by defective enzy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…the defective enzyme must be caused by an error in hereditary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rrod’s hypothesis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nature.com/scitable/topicpage/cell-metabolism-140261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ective alkapton-metabolizing enzyme part of a metabolic path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born error of metabolism” (192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5800" y="4192560"/>
            <a:ext cx="777240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enylalanine Metabolism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iki.cstl.semo.edu/agathman/Proteins%20and%20genes.ash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000160" y="1981080"/>
            <a:ext cx="5143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adle &amp; Tatum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rom: http://sandwalk.blogspot.com/2008/05/nobel-laureates-george-beadle-and.ht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erican genetic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shed paper  (1941) with findings on relationship betwee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en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nzym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red bread mould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eurospora cras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648320" y="2365200"/>
            <a:ext cx="3809880" cy="33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Neurospora crassa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publications.nigms.nih.gov/thenewgenetics/livinglab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673360" y="1981080"/>
            <a:ext cx="3795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adle &amp; Tat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”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. crass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able to grow on minimal nutrient medium (i.e. it was able to synthesize all needed amino acids and vitami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tant” strains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. crass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ere created through exposure to X-rays or UV rad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22:10:59Z</dcterms:created>
  <dc:creator>rubina khan</dc:creator>
  <dc:description/>
  <dc:language>en-US</dc:language>
  <cp:lastModifiedBy>rubina khan</cp:lastModifiedBy>
  <dcterms:modified xsi:type="dcterms:W3CDTF">2011-11-11T13:15:55Z</dcterms:modified>
  <cp:revision>87</cp:revision>
  <dc:subject/>
  <dc:title>Molecular Genetics</dc:title>
</cp:coreProperties>
</file>